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7D78-161C-4108-AD0C-8107A3B0F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DAF1-C5FE-4E43-A5A7-B5FC4CE7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8007-AA61-4FE1-97A3-DC5118C38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F56D-3657-4EF1-9753-0FF1A1AD1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322B-05A3-4F8D-8ADC-AC396275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C04D-9C92-4A9A-89AD-AB0A53DB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AD65-E6A9-44D7-9180-22BA71F3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BF0F-7316-4B7D-B884-31AF7A69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66B3-B532-41B8-A116-0A2D0E96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7BC4-1F0E-4F10-A6E3-10BA215C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0161-6F7C-41AA-9F86-0413F0C8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8615-CF2F-4C40-B6EB-2DB29A12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2D42-58A7-499F-9D61-D381778E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B48D-AB4C-4934-AC7B-5860D202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E71F-03ED-4DD5-82E8-F30EFE56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37C9-977B-429D-B9DF-8A3F677E2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24D2-9ED0-4D37-ACCF-4160DA41F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495A-DCCA-40F1-8237-D175E1A6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C111-4BBD-41F3-8DFA-3927C2E3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9631-8E74-4822-A09F-524A8D33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D29A-5FF8-4E83-87F9-5DAAC57B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B4A8-49CC-4031-9543-6942B3C3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616F-BCDB-4791-BA4B-58EC492E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5DB2-B7BE-4B0A-8F11-D5806552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5FE6-BDBD-4A8C-884E-BE179E19D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58EF-2C7E-47D5-ACCC-4446C3BDF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235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Attributes of an Inven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GR 7-2 Lesson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398160" y="617220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ritten by Roland Willia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391520" y="6172200"/>
            <a:ext cx="152388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826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826320" cy="50292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2"/>
          <p:cNvSpPr/>
          <p:nvPr/>
        </p:nvSpPr>
        <p:spPr>
          <a:xfrm>
            <a:off x="1676520" y="571500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Invention Discussio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eat Thinkers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ir Inven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38862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ster Greenw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rle Dicks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rence Cra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lliam Russell Frisb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4" descr="BD06727_"/>
          <p:cNvPicPr/>
          <p:nvPr/>
        </p:nvPicPr>
        <p:blipFill>
          <a:blip r:embed="rId1"/>
          <a:stretch/>
        </p:blipFill>
        <p:spPr>
          <a:xfrm>
            <a:off x="4572000" y="1905120"/>
            <a:ext cx="1658880" cy="1474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HM00172_"/>
          <p:cNvPicPr/>
          <p:nvPr/>
        </p:nvPicPr>
        <p:blipFill>
          <a:blip r:embed="rId2"/>
          <a:stretch/>
        </p:blipFill>
        <p:spPr>
          <a:xfrm>
            <a:off x="4038480" y="3809880"/>
            <a:ext cx="808200" cy="932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BD20094_"/>
          <p:cNvPicPr/>
          <p:nvPr/>
        </p:nvPicPr>
        <p:blipFill>
          <a:blip r:embed="rId3"/>
          <a:stretch/>
        </p:blipFill>
        <p:spPr>
          <a:xfrm>
            <a:off x="3886200" y="3962520"/>
            <a:ext cx="1862280" cy="195876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9"/>
          <p:cNvSpPr/>
          <p:nvPr/>
        </p:nvSpPr>
        <p:spPr>
          <a:xfrm>
            <a:off x="2563920" y="3056040"/>
            <a:ext cx="4017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11" descr="crystomintroll"/>
          <p:cNvPicPr/>
          <p:nvPr/>
        </p:nvPicPr>
        <p:blipFill>
          <a:blip r:embed="rId4"/>
          <a:stretch/>
        </p:blipFill>
        <p:spPr>
          <a:xfrm>
            <a:off x="5791320" y="3809880"/>
            <a:ext cx="1884240" cy="2132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frisbee1"/>
          <p:cNvPicPr/>
          <p:nvPr/>
        </p:nvPicPr>
        <p:blipFill>
          <a:blip r:embed="rId5"/>
          <a:stretch/>
        </p:blipFill>
        <p:spPr>
          <a:xfrm>
            <a:off x="6781680" y="2436840"/>
            <a:ext cx="1676520" cy="16603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3"/>
          <p:cNvSpPr/>
          <p:nvPr/>
        </p:nvSpPr>
        <p:spPr>
          <a:xfrm>
            <a:off x="1752480" y="5943600"/>
            <a:ext cx="807732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s were retrieved from http://z.about.com/d/inventors/1/0/P/5/frisbee1.jpg, http://www.candydirect.com/mints/Lifesavers-Rolls-CrystOMint.html,  and the                     Microsoft Clip Art Galle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7" descr="FD01167_"/>
          <p:cNvPicPr/>
          <p:nvPr/>
        </p:nvPicPr>
        <p:blipFill>
          <a:blip r:embed="rId6"/>
          <a:stretch/>
        </p:blipFill>
        <p:spPr>
          <a:xfrm>
            <a:off x="6705720" y="2057400"/>
            <a:ext cx="169848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ssential Ques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219320" y="2362320"/>
            <a:ext cx="6858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makes an inventor special and what are their impacts on our societ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GR 7-2 Lesson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GP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NGR-II-5: Students will examine the impacts of inventions and innovations on societ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Knowledge/Ele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cuss the societal impacts of a specific invention or innov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.  Analyze positive and negative effects of inventions and innov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ssential Ques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219320" y="2362320"/>
            <a:ext cx="6858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makes an inventor special and what are their impacts on our societ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d W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762120" y="1066680"/>
            <a:ext cx="3581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ven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nov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ttrib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cietal Impac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pecialization of Fun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4648320" y="1066680"/>
            <a:ext cx="3809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tifa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totyp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gineering Design Proc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rtifacts: What do they reveal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267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artifact is a human made object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tifacts found at archaeological sites tell a lot about the people, their culture, and their societ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artifacts found include tools, pottery, and personal effec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0" y="1523880"/>
            <a:ext cx="4152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tifacts can reveal who the people were, what they ate, how they used tools, how they worked together, and their inventions and innova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5" descr="TR00405_"/>
          <p:cNvPicPr/>
          <p:nvPr/>
        </p:nvPicPr>
        <p:blipFill>
          <a:blip r:embed="rId1"/>
          <a:stretch/>
        </p:blipFill>
        <p:spPr>
          <a:xfrm>
            <a:off x="4495680" y="5029200"/>
            <a:ext cx="1524240" cy="1409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BD19993_"/>
          <p:cNvPicPr/>
          <p:nvPr/>
        </p:nvPicPr>
        <p:blipFill>
          <a:blip r:embed="rId2"/>
          <a:stretch/>
        </p:blipFill>
        <p:spPr>
          <a:xfrm>
            <a:off x="6248520" y="4952880"/>
            <a:ext cx="194940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685800" y="1066680"/>
            <a:ext cx="7543800" cy="65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 you think are the personal attributes of an inventor?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ributes are the characteristics of a person.  What makes them special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1219320" y="1066680"/>
            <a:ext cx="6705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ttributes:  The characteristics of a person.  What makes them special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2514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om the handout, read one of the four vignettes from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“Great Thinkers and Their Inventions” and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complete the “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ttributes Worksheet.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ntify the need or desire satisfied by the inventions and other societal impac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cietal Impacts – How people and products affect the way we liv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5486400" y="5638680"/>
            <a:ext cx="3276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Handouts: Great Thinkers and Their Invention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ttributes Workshe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01:37:09Z</dcterms:created>
  <dc:creator>Pamela J. Brown</dc:creator>
  <dc:description/>
  <dc:language>en-US</dc:language>
  <cp:lastModifiedBy>CTAE User</cp:lastModifiedBy>
  <dcterms:modified xsi:type="dcterms:W3CDTF">2010-02-08T18:27:28Z</dcterms:modified>
  <cp:revision>31</cp:revision>
  <dc:subject/>
  <dc:title>INVENTION</dc:title>
</cp:coreProperties>
</file>